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7D1-5BDE-4584-B8C5-0258F70C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B71-0F41-41E0-8686-A95620E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02D-CC27-4B21-BD27-B46B7D18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4CC-FBDA-4FA6-8CC6-7246C569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ECD-60BD-41CA-927E-A108DEA8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5CFB-01C6-42CC-90C7-8ABEC7F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54C-9C55-4DF0-89B4-37CD70D8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41E9-2A34-449B-952A-2D32BCD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EF1-03B1-472B-B90F-44738DFC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596D-D7AD-45A7-9F0D-18820030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303-5D7E-4236-9F3A-DA12ED0E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C74-8621-45C0-8671-9E020A5A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7209-7DC7-48AD-A1C9-A0AA5FE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765D-22F6-43C6-B2F8-F87542B2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11CD-5E84-4D7C-83DB-DCBADA2C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8FA-68DE-4C45-8BFD-7FFCC08C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8EE2-586D-4373-BA0E-F8C8EDEE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CF8-FDE8-444F-8435-9EE6AAC9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B60-A8FE-4CFD-8544-93A3F4B0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F73-0B40-48E6-9D1E-18BB4259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7B9-924B-4B8C-8B42-8D6B4FCA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DF6-5C15-4A0D-A8F7-987A771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966-DC60-48C6-A2EE-A67C2AF0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752-1E32-41E8-9EA9-D07D1486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4DA9-30ED-4AE9-968C-50956D8F42A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9F95-B2D0-4CA9-914F-F1EB13E03D2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y: Michael Bunt, Matthew Challender, Clancy Carlisle, and Catherine Park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Music Pi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any form of unauthorized duplication and (or) distribution of music including downloading, file sharing, and CD bur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basically stealing music from these perfectly legal sit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sic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you get caught illegally downloading music; you can face up to five years in prison or you can get slapped with a 250,000 f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it is it worth the money or the jail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can buy over 200,000 songs with that kind of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ports show that the American Poetry Society has been stealing poems from small time po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named David from Templeton, California was one of the victims rep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was a man named Paul Vermeersch he was a homeless man although a wonderful poet was robbed of all of his po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ive basic forms of intellectual property that can be protected: patients, copyrights, trademarks, mask works, and trade secrets. each form of intellectual property has a unique function in helping individuals and businesses protect their business ass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der the laws of the United States, a person is ordinarily free to make, use or sell anything of their ow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42:13Z</dcterms:created>
  <dc:creator>DMS Lab</dc:creator>
  <dc:description/>
  <dc:language>en-US</dc:language>
  <cp:lastModifiedBy>DMS Lab</cp:lastModifiedBy>
  <dcterms:modified xsi:type="dcterms:W3CDTF">2009-10-26T18:47:21Z</dcterms:modified>
  <cp:revision>3</cp:revision>
  <dc:subject/>
  <dc:title>Intellectual Property</dc:title>
</cp:coreProperties>
</file>