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E2B-2C8D-4EB7-ACAF-FC731FDD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F84-CF57-4DC2-8521-F7EF8DCE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142-E392-4F29-BF5A-9F47D668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0A3-BB00-4D19-A756-5F151A20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87A2-9E5E-46AC-A6CC-49FFDD96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D971-E575-47A3-B6A7-2A1B70D0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A28-313E-4795-B8F1-DD089CC8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A8B-CEEE-49BD-B333-F18E78BE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1699-6880-4D9A-94AB-1FEC90BF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CBC-F0A2-4C80-96A0-8C0BEFEF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927C-EDA4-49D2-8599-E5C342B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B38-1667-4FBF-A637-724C6005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4C8A-0F9D-4986-9D0F-8A34AF7B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E4C-8B19-458D-A695-46D8217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56B9-C35A-4CBA-8A5E-BF6D4E44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DBAC-905D-4BB9-8429-6B44934A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A975-0EA6-4C50-B552-4C0D1996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5B3-71A4-4152-920C-9F571E36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DAC-856D-4729-87FC-091F3E83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09E-39E8-446F-9C9B-E97800E4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368-AF62-4587-BBF2-506B4466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F4B-2CA3-416B-BE23-FC40850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753-9989-4536-8A2A-64CFDAC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14F-C0B3-4834-A635-A0F0AE19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4894-5E65-4926-A111-E483F647C64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4DB-B009-4B3D-AA37-8BC77C8D2AC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y: Michael Bunt, Matthew Challender, Clancy Carlisle, and Catherine Park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Music Pi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any form of unauthorized duplication and (or) distribution of music including downloading, file sharing, and CD bur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basically stealing music from these perfectly legal sit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sic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you get caught illegally downloading music; you can face up to five years in prison or you can get slapped with a 250,000 f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it is it worth the money or the jail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can buy over 200,000 songs with that kind of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ports show that the American Poetry Society has been stealing poems from small time po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named David from Templeton, California was one of the victims rep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was a man named Paul Vermeersch he was a homeless man although a wonderful poet was robbed of all of his po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ive basic forms of intellectual property that can be protected: patients, copyrights, trademarks, mask works, and trade secrets. each form of intellectual property has a unique function in helping individuals and businesses protect their business ass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der the laws of the United States, a person is ordinarily free to make, use or sell anything of their ow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42:13Z</dcterms:created>
  <dc:creator>DMS Lab</dc:creator>
  <dc:description/>
  <dc:language>en-US</dc:language>
  <cp:lastModifiedBy>DMS Lab</cp:lastModifiedBy>
  <dcterms:modified xsi:type="dcterms:W3CDTF">2009-10-26T18:47:21Z</dcterms:modified>
  <cp:revision>3</cp:revision>
  <dc:subject/>
  <dc:title>Intellectual Property</dc:title>
</cp:coreProperties>
</file>