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08E-0E58-4990-8841-D92AF057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BF2-0537-4591-AB0C-3C96BE69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B07-B9C7-4612-B41B-184CE64B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FE0-74DC-4A7D-8DC4-093D62AC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3155-2D15-4A71-9F00-78316951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BAEE-220E-45A2-B6E2-3A6C85F4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D966-073B-4F58-998B-A587E9C7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0126-9959-48D1-8D62-A1B5BA89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3CD6-7962-4D61-AD96-36C83D4D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3497-20C7-4F49-A6A2-713A841E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9CF7-2B16-49AA-9721-02CF4632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44BF-21D6-42E1-9284-28A61870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F227-1C59-4A4E-9762-B0F34C03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4E97-D132-4563-BF49-E3F7734D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D5D7-E8F5-4667-AF73-C6386AB6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59D9-1521-4AD8-9511-A22A5777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D4DA-F268-4F3A-A96F-748E5A59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82D-1C02-4700-AF0C-9F95817C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972B-9888-4546-9E4D-D98FDD74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D3EF-9B51-409C-8C98-37CDFE7D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D9F-C283-4E89-B02F-A502D24D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CA85-BAED-43A1-825A-CF25998D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E271-D127-4ABE-BBE3-06B9B8A9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686F-3B93-41E6-A1A9-76D038DD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D41C-AFAC-4EE7-B1BF-BC8613D7116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63CA-8E4B-4DDC-A0A7-8493EC08776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Arial Black"/>
              </a:rPr>
              <a:t>Intellectual Proper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By: Michael Bunt, Matthew Challender, Clancy Carlisle, and Catherine Park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Music Pirac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usic piracy is any form of unauthorized duplication and (or) distribution of music including downloading, file sharing, and CD burn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usic piracy is basically stealing music from these perfectly legal sit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usic Piracy Con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f you get caught illegally downloading music; you can face up to five years in prison or you can get slapped with a 250,000 fin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nk about it is it worth the money or the jail tim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can buy over 200,000 songs with that kind of money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em Piracy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ports show that the American Poetry Society has been stealing poems from small time poe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man named David from Templeton, California was one of the victims repor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em Piracy Con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other was a man named Paul Vermeersch he was a homeless man although a wonderful poet was robbed of all of his poem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ellectual Proper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re are five basic forms of intellectual property that can be protected: patients, copyrights, trademarks, mask works, and trade secrets. each form of intellectual property has a unique function in helping individuals and businesses protect their business asse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ellectual Property Con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Under the laws of the United States, a person is ordinarily free to make, use or sell anything of their own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8:42:13Z</dcterms:created>
  <dc:creator>DMS Lab</dc:creator>
  <dc:description/>
  <dc:language>en-US</dc:language>
  <cp:lastModifiedBy>DMS Lab</cp:lastModifiedBy>
  <dcterms:modified xsi:type="dcterms:W3CDTF">2009-10-26T18:47:21Z</dcterms:modified>
  <cp:revision>3</cp:revision>
  <dc:subject/>
  <dc:title>Intellectual Property</dc:title>
</cp:coreProperties>
</file>