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07C2-D7BC-40EA-9D9B-7F5665E0D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834F-FC93-46B8-BC79-6E5207CC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763C-2AB4-4D83-879A-B2A77F735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8DEA-4180-4211-A91A-6DD4BB58D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FAB9-1F49-41B3-9D84-3569D025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3ACF-777C-4D3A-88DB-DDF5B4B9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C648-20B3-4DAC-9785-AEEDA4AF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001B-AE78-4312-887B-FC3C8D7D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D951-3F7F-4FDB-8D92-7C7C409C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B475-E2AA-4A34-BC5F-60B135B5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EC7F-9A54-49AE-A9E2-4A71E50B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8D65-DDC7-41EF-85F8-7C177E80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EE7A-1582-4DF0-9D2E-8E5C0091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071B-E3B7-4999-9A8B-D60803F1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D228-3B82-401A-AFEF-BDCC9BA2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71EE-EB69-4B10-86F5-5A2A84DE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87A2-5BD0-40AA-A893-A4445841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483D-6849-40E7-8236-39405F2D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F047-31D8-4B35-A636-E2308F4F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3FB2-98A5-4FCE-8B24-59A5CF29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EE70-766B-4593-AC5B-C8F5D413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1A25-287A-4E33-B159-09F3A099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B27B-B26A-45C1-A6F1-1B5F5574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DE9A-65FE-40D9-ABFA-F7CB8382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6DE3-4FEB-41D5-83C6-1618F258865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5C98-9EC7-478D-B832-4AD61609BBA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Arial Black"/>
              </a:rPr>
              <a:t>Intellectual Propert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By: Michael Bunt, Matthew Challender, Clancy Carlisle, and Catherine Park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 Black"/>
              </a:rPr>
              <a:t>Music Pirac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usic piracy is any form of unauthorized duplication and (or) distribution of music including downloading, file sharing, and CD burn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usic piracy is basically stealing music from these perfectly legal sit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usic Piracy Cont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f you get caught illegally downloading music; you can face up to five years in prison or you can get slapped with a 250,000 fin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ink about it is it worth the money or the jail tim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You can buy over 200,000 songs with that kind of money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em Piracy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ports show that the American Poetry Society has been stealing poems from small time poet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man named David from Templeton, California was one of the victims report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em Piracy Cont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other was a man named Paul Vermeersch he was a homeless man although a wonderful poet was robbed of all of his poem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tellectual Propert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re are five basic forms of intellectual property that can be protected: patients, copyrights, trademarks, mask works, and trade secrets. each form of intellectual property has a unique function in helping individuals and businesses protect their business asset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tellectual Property Cont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Under the laws of the United States, a person is ordinarily free to make, use or sell anything of their own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8:42:13Z</dcterms:created>
  <dc:creator>DMS Lab</dc:creator>
  <dc:description/>
  <dc:language>en-US</dc:language>
  <cp:lastModifiedBy>DMS Lab</cp:lastModifiedBy>
  <dcterms:modified xsi:type="dcterms:W3CDTF">2009-10-26T18:47:21Z</dcterms:modified>
  <cp:revision>3</cp:revision>
  <dc:subject/>
  <dc:title>Intellectual Property</dc:title>
</cp:coreProperties>
</file>