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14B-D8F0-41BF-8403-D3A66F1A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CCF-704D-4255-93B0-DB3ED64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A9C-AD41-4013-8E35-F17BBB22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61B-5864-4E2D-BC46-1161C645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CFC1-F755-421A-BEEB-68C60B22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6F18-51D8-4798-913A-1EEF8E7F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0633-605B-46AD-8936-BFFA9E2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A841-0C62-4C83-A75F-27FBFC9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4CC3-767F-49C0-9AAA-74DDE8C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C5FB-E159-4D67-A7B6-62918D41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784F-DEC7-4F52-94FD-997C903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209-1CBF-45FE-9B10-2B558DD4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590-2B6F-4714-BB02-A6813D89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DA0-548D-4000-BD68-6B033D4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2657-EF1B-4B08-B6CA-172D5B67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1A59-1A8F-48A6-A739-3A2E17BA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7005-64C2-4396-A3FD-BC0ED4A9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B3B-410F-4836-9100-2AC037C8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103-1D4A-411C-B639-0CFF3E52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A7C-003E-483C-8718-EA13A2A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B62-6CD8-43AC-B7D0-3191B1BE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38D-AD90-4A9B-A592-10B4A33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CF3-784B-49B7-A2A0-16CAD18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542-4668-4AF5-A061-6A52342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55EC-8869-4350-B643-CBC3FF17EF4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B26D-5AFB-49BA-BF58-C9D70A6D336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By: Michael Bunt, Matthew Challender, Clancy Carlisle, and Catherine Park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 Black"/>
              </a:rPr>
              <a:t>Music Pi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any form of unauthorized duplication and (or) distribution of music including downloading, file sharing, and CD burn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ic piracy is basically stealing music from these perfectly legal sit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usic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you get caught illegally downloading music; you can face up to five years in prison or you can get slapped with a 250,000 f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nk about it is it worth the money or the jail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can buy over 200,000 songs with that kind of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ports show that the American Poetry Society has been stealing poems from small time po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n named David from Templeton, California was one of the victims repor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m Pirac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other was a man named Paul Vermeersch he was a homeless man although a wonderful poet was robbed of all of his po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ive basic forms of intellectual property that can be protected: patients, copyrights, trademarks, mask works, and trade secrets. each form of intellectual property has a unique function in helping individuals and businesses protect their business asse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llectual Property Con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der the laws of the United States, a person is ordinarily free to make, use or sell anything of their ow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8:42:13Z</dcterms:created>
  <dc:creator>DMS Lab</dc:creator>
  <dc:description/>
  <dc:language>en-US</dc:language>
  <cp:lastModifiedBy>DMS Lab</cp:lastModifiedBy>
  <dcterms:modified xsi:type="dcterms:W3CDTF">2009-10-26T18:47:21Z</dcterms:modified>
  <cp:revision>3</cp:revision>
  <dc:subject/>
  <dc:title>Intellectual Property</dc:title>
</cp:coreProperties>
</file>